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757-5878-48F5-94E0-5723A017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DD5-3A37-4444-B225-12C1724B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C7F-E231-44CF-8852-F4B87A66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926-B0D7-4D65-B01B-52A81FAD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6C4-56B5-4856-BB3A-F9F8D55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C33-F587-4E96-8550-E13A19D7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A91-2114-48BB-9D64-A057FBBF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E19-39E4-490D-B93E-ED2B0E0A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222-4E70-4EB6-80B3-504F0D27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D65-DBBB-4545-AE03-54A584C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73F-0E67-4A23-B3C2-FC0486F3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DF4-0242-42AB-8545-3B1AE46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ED1D-D32F-496A-8D05-B05E58A89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imSun"/>
              </a:rPr>
              <a:t>Proper Keyboarding Techni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per keyboarding technique include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Pos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Arm and Hand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Keystroking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ne straight leaning slightl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front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le distance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t on floor, slightly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Jam010"/>
          <p:cNvPicPr/>
          <p:nvPr/>
        </p:nvPicPr>
        <p:blipFill>
          <a:blip r:embed="rId1"/>
          <a:stretch/>
        </p:blipFill>
        <p:spPr>
          <a:xfrm>
            <a:off x="762120" y="182880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 and Hand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relaxed; elbows naturally close to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s nearly parallel with slope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Jam004"/>
          <p:cNvPicPr/>
          <p:nvPr/>
        </p:nvPicPr>
        <p:blipFill>
          <a:blip r:embed="rId1"/>
          <a:stretch/>
        </p:blipFill>
        <p:spPr>
          <a:xfrm>
            <a:off x="457200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sts and Fi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curved, tips of fingers resting lightly 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sts low, but palms of hands not resting on the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s and wrists "quiet," almost motio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9"/>
          <p:cNvGraphicFramePr/>
          <p:nvPr/>
        </p:nvGraphicFramePr>
        <p:xfrm>
          <a:off x="4952880" y="1828800"/>
          <a:ext cx="336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336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5000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 Keystroking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ips of your fingers to operate the assigned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circular, pecking motion (down and in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inger"/>
          <p:cNvPicPr/>
          <p:nvPr/>
        </p:nvPicPr>
        <p:blipFill>
          <a:blip r:embed="rId1"/>
          <a:stretch/>
        </p:blipFill>
        <p:spPr>
          <a:xfrm>
            <a:off x="685800" y="2470320"/>
            <a:ext cx="380988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DO THIS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type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make fewer mista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able to type longer without getting as t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be less likely that you will have health problems with your hands and wr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75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ORTH THE EFFO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BD00005_"/>
          <p:cNvPicPr/>
          <p:nvPr/>
        </p:nvPicPr>
        <p:blipFill>
          <a:blip r:embed="rId1"/>
          <a:stretch/>
        </p:blipFill>
        <p:spPr>
          <a:xfrm>
            <a:off x="4038480" y="2819520"/>
            <a:ext cx="1603440" cy="16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D00005_"/>
          <p:cNvPicPr/>
          <p:nvPr/>
        </p:nvPicPr>
        <p:blipFill>
          <a:blip r:embed="rId2"/>
          <a:stretch/>
        </p:blipFill>
        <p:spPr>
          <a:xfrm>
            <a:off x="2743200" y="2209680"/>
            <a:ext cx="3675240" cy="370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23:00:11Z</dcterms:created>
  <dc:creator>Inst </dc:creator>
  <dc:description/>
  <dc:language>en-US</dc:language>
  <cp:lastModifiedBy>mrank</cp:lastModifiedBy>
  <dcterms:modified xsi:type="dcterms:W3CDTF">2009-08-15T01:34:32Z</dcterms:modified>
  <cp:revision>11</cp:revision>
  <dc:subject/>
  <dc:title>Proper Keyboarding Technique</dc:title>
</cp:coreProperties>
</file>