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6E0E-A9B1-4F24-A4B0-019416C41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174F-0237-45ED-A989-42D7EFAC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3417-3541-48DE-BF7F-EE52B81EC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706B-BF2D-4144-8C23-C8205ADC2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D25B-4847-4D40-9C36-0B89C470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AF73-3C67-4B37-AF0C-FCC92565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971B-678A-4E32-8008-B988CADC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58D4-39E7-4E3C-B3AB-F60C01CA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2BB7-488E-4C41-B65D-FB0C5A58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AA21-AA1B-45A8-B3EB-39FD3C5B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A2A7-3F2D-4508-BCAD-161FB96B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CDDE-1EC0-4255-B0BA-90C1AE9C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BB01-EDA8-4D0E-BA18-2473C5734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imSun"/>
              </a:rPr>
              <a:t>Proper Keyboarding Techniqu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roper keyboarding technique includes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Correct Pos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Correct Arm and Hand Pos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Correct Keystroking Techn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ine straight leaning slightly for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ered in front of key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fortable distance from key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et on floor, slightly ap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" descr="Jam010"/>
          <p:cNvPicPr/>
          <p:nvPr/>
        </p:nvPicPr>
        <p:blipFill>
          <a:blip r:embed="rId1"/>
          <a:stretch/>
        </p:blipFill>
        <p:spPr>
          <a:xfrm>
            <a:off x="762120" y="1828800"/>
            <a:ext cx="3314520" cy="4419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75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75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75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75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75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75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75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75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m and Hand 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ms relaxed; elbows naturally close to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arms nearly parallel with slope of key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8" descr="Jam004"/>
          <p:cNvPicPr/>
          <p:nvPr/>
        </p:nvPicPr>
        <p:blipFill>
          <a:blip r:embed="rId1"/>
          <a:stretch/>
        </p:blipFill>
        <p:spPr>
          <a:xfrm>
            <a:off x="4572000" y="213372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75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75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75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75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sts and Fin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gers curved, tips of fingers resting lightly on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sts low, but palms of hands not resting on the key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s and wrists "quiet," almost motion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Object 9"/>
          <p:cNvGraphicFramePr/>
          <p:nvPr/>
        </p:nvGraphicFramePr>
        <p:xfrm>
          <a:off x="4952880" y="1828800"/>
          <a:ext cx="336096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828800"/>
                    <a:ext cx="336096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l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75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75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75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75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75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676"/>
            </a:gs>
            <a:gs pos="50000">
              <a:srgbClr val="ccffff"/>
            </a:gs>
            <a:gs pos="100000">
              <a:srgbClr val="5e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er Keystroking Techn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tips of your fingers to operate the assigned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circular, pecking motion (down and inwa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finger"/>
          <p:cNvPicPr/>
          <p:nvPr/>
        </p:nvPicPr>
        <p:blipFill>
          <a:blip r:embed="rId1"/>
          <a:stretch/>
        </p:blipFill>
        <p:spPr>
          <a:xfrm>
            <a:off x="685800" y="2470320"/>
            <a:ext cx="3809880" cy="3136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75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75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75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75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DO THIS . .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will type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will make fewer mista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will be able to type longer without getting as t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ill be less likely that you will have health problems with your hands and wri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75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75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75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75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8" dur="1" fill="hold"/>
                                  <p:tgtEl>
                                    <p:spTgt spid="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ORTH THE EFFOR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BD00005_"/>
          <p:cNvPicPr/>
          <p:nvPr/>
        </p:nvPicPr>
        <p:blipFill>
          <a:blip r:embed="rId1"/>
          <a:stretch/>
        </p:blipFill>
        <p:spPr>
          <a:xfrm>
            <a:off x="4038480" y="2819520"/>
            <a:ext cx="1603440" cy="1616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BD00005_"/>
          <p:cNvPicPr/>
          <p:nvPr/>
        </p:nvPicPr>
        <p:blipFill>
          <a:blip r:embed="rId2"/>
          <a:stretch/>
        </p:blipFill>
        <p:spPr>
          <a:xfrm>
            <a:off x="2743200" y="2209680"/>
            <a:ext cx="3675240" cy="3703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2T23:00:11Z</dcterms:created>
  <dc:creator>Inst </dc:creator>
  <dc:description/>
  <dc:language>en-US</dc:language>
  <cp:lastModifiedBy>mrank</cp:lastModifiedBy>
  <dcterms:modified xsi:type="dcterms:W3CDTF">2009-08-15T01:34:32Z</dcterms:modified>
  <cp:revision>11</cp:revision>
  <dc:subject/>
  <dc:title>Proper Keyboarding Technique</dc:title>
</cp:coreProperties>
</file>